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39344-6088-4974-B241-1DD5DA159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36DD2-118E-4388-9B34-BAD2D93C5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05AD7-8E58-4120-8685-193D4F6E4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A87B9-10E5-4BD9-AF3D-84F352A0E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F4B22-73DB-4508-98C3-12B03C0E5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22329-911D-44EE-B428-F5C5634C5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3A755-0333-4894-AB3B-E73020960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4ED22-F527-4E8C-8823-CC7BDAE65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ECE57-ECCA-44B6-9A4F-247D564B6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4881B-C459-4704-BBB5-C3880D99F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FEFD8-29B4-45F8-92AD-938971484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21252-7EC0-43E1-AD96-8518B5FBD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4BBA3-7C53-49E2-9028-757773EDEE51}" type="slidenum">
              <a:rPr b="0" lang="ro-RO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3640" y="609480"/>
            <a:ext cx="8569080" cy="2748240"/>
          </a:xfrm>
          <a:prstGeom prst="rect">
            <a:avLst/>
          </a:prstGeom>
          <a:solidFill>
            <a:srgbClr val="66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ff0066"/>
                </a:solidFill>
                <a:latin typeface="Times New Roman"/>
              </a:rPr>
              <a:t>    </a:t>
            </a:r>
            <a:r>
              <a:rPr b="1" lang="en-US" sz="4800" spc="-1" strike="noStrike">
                <a:solidFill>
                  <a:srgbClr val="ff0066"/>
                </a:solidFill>
                <a:latin typeface="Times New Roman"/>
              </a:rPr>
              <a:t>S</a:t>
            </a:r>
            <a:r>
              <a:rPr b="1" lang="ro-RO" sz="4800" spc="-1" strike="noStrike">
                <a:solidFill>
                  <a:srgbClr val="ff0066"/>
                </a:solidFill>
                <a:latin typeface="Times New Roman"/>
              </a:rPr>
              <a:t>crierea corectă a cuvintelor</a:t>
            </a:r>
            <a:r>
              <a:rPr b="1" lang="ro-RO" sz="4000" spc="-1" strike="noStrike">
                <a:solidFill>
                  <a:srgbClr val="ff0066"/>
                </a:solidFill>
                <a:latin typeface="Times New Roman"/>
              </a:rPr>
              <a:t>   </a:t>
            </a:r>
            <a:br>
              <a:rPr sz="4000"/>
            </a:br>
            <a:r>
              <a:rPr b="1" lang="ro-RO" sz="4000" spc="-1" strike="noStrike">
                <a:solidFill>
                  <a:srgbClr val="ff0066"/>
                </a:solidFill>
                <a:latin typeface="Times New Roman"/>
              </a:rPr>
              <a:t>  </a:t>
            </a:r>
            <a:r>
              <a:rPr b="1" lang="ro-RO" sz="4000" spc="-1" strike="noStrike">
                <a:solidFill>
                  <a:srgbClr val="6600cc"/>
                </a:solidFill>
                <a:latin typeface="Times New Roman"/>
              </a:rPr>
              <a:t>într-o / într-un</a:t>
            </a:r>
            <a:r>
              <a:rPr b="1" lang="ro-RO" sz="4800" spc="-1" strike="noStrike">
                <a:solidFill>
                  <a:srgbClr val="ff0066"/>
                </a:solidFill>
                <a:latin typeface="Times New Roman"/>
              </a:rPr>
              <a:t>     </a:t>
            </a:r>
            <a:r>
              <a:rPr b="1" lang="ro-RO" sz="4000" spc="-1" strike="noStrike">
                <a:solidFill>
                  <a:srgbClr val="0000ff"/>
                </a:solidFill>
                <a:latin typeface="Times New Roman"/>
              </a:rPr>
              <a:t>dintr-o / dintr-un</a:t>
            </a:r>
            <a:r>
              <a:rPr b="1" lang="ro-RO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424720" cy="865080"/>
          </a:xfrm>
          <a:prstGeom prst="rect">
            <a:avLst/>
          </a:prstGeom>
          <a:solidFill>
            <a:srgbClr val="66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0066"/>
                </a:solidFill>
                <a:latin typeface="Times New Roman"/>
              </a:rPr>
              <a:t>Completaţi enunţurile de mai jos folosind cuvintele:    într-un/într-o   dint-un/dintr-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1197000"/>
            <a:ext cx="8605800" cy="61970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ff"/>
                </a:solidFill>
                <a:latin typeface="Times New Roman"/>
              </a:rPr>
              <a:t>Imaginile acestea le-am scos ............. revistă.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ff"/>
                </a:solidFill>
                <a:latin typeface="Times New Roman"/>
              </a:rPr>
              <a:t>Cică era  …………. sat un om ……….. ureche.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ff"/>
                </a:solidFill>
                <a:latin typeface="Times New Roman"/>
              </a:rPr>
              <a:t>Lizuca a visat că locuieşte …………. palat minunat.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ff"/>
                </a:solidFill>
                <a:latin typeface="Times New Roman"/>
              </a:rPr>
              <a:t>Făt – Frumos creştea  ………… zi cât alţii ………… a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ff"/>
                </a:solidFill>
                <a:latin typeface="Times New Roman"/>
              </a:rPr>
              <a:t>Noaptea trecută ………….. rezervor a curs toată motorina.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ff"/>
                </a:solidFill>
                <a:latin typeface="Times New Roman"/>
              </a:rPr>
              <a:t>Victor ţinea ………… mână un zmeu şi aştepta să bată vântu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ff"/>
                </a:solidFill>
                <a:latin typeface="Times New Roman"/>
              </a:rPr>
              <a:t>Din cauza incendiului …………… casă n-a mai rămas nimic.</a:t>
            </a:r>
            <a:r>
              <a:rPr b="0" lang="ro-RO" sz="2400" spc="-1" strike="noStrike">
                <a:solidFill>
                  <a:srgbClr val="0000ff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ff"/>
                </a:solidFill>
                <a:latin typeface="Times New Roman"/>
              </a:rPr>
              <a:t>Am adunat ………… sac toate hârtiile din curtea şcolii.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ff"/>
                </a:solidFill>
                <a:latin typeface="Times New Roman"/>
              </a:rPr>
              <a:t>Lizuca şi Patrocle s-au adăpostit …………. scorbură bătrână.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ff"/>
                </a:solidFill>
                <a:latin typeface="Times New Roman"/>
              </a:rPr>
              <a:t>M-am speriat grozav, când ………….. tufiş a sărit un iepuraş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995640" y="1268280"/>
            <a:ext cx="863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424720" cy="11523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T</a:t>
            </a:r>
            <a:r>
              <a:rPr b="1" lang="ro-RO" sz="3200" spc="-1" strike="noStrike">
                <a:solidFill>
                  <a:srgbClr val="a50021"/>
                </a:solidFill>
                <a:latin typeface="Times New Roman"/>
              </a:rPr>
              <a:t>ransformă folosind cuvintele: într-o / într-un</a:t>
            </a:r>
            <a:br>
              <a:rPr sz="3200"/>
            </a:br>
            <a:r>
              <a:rPr b="1" lang="ro-RO" sz="3200" spc="-1" strike="noStrike">
                <a:solidFill>
                  <a:srgbClr val="a50021"/>
                </a:solidFill>
                <a:latin typeface="Times New Roman"/>
              </a:rPr>
              <a:t>dintr-o/dintr-u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50920" y="1628640"/>
            <a:ext cx="4033800" cy="4353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ff"/>
                </a:solidFill>
                <a:latin typeface="Times New Roman"/>
              </a:rPr>
              <a:t>în poiană  - într-o poian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ff"/>
                </a:solidFill>
                <a:latin typeface="Times New Roman"/>
              </a:rPr>
              <a:t>în dulap    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ff"/>
                </a:solidFill>
                <a:latin typeface="Times New Roman"/>
              </a:rPr>
              <a:t>în penar    -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ff"/>
                </a:solidFill>
                <a:latin typeface="Times New Roman"/>
              </a:rPr>
              <a:t>în livadă    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ff"/>
                </a:solidFill>
                <a:latin typeface="Times New Roman"/>
              </a:rPr>
              <a:t>în catalog  -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ff"/>
                </a:solidFill>
                <a:latin typeface="Times New Roman"/>
              </a:rPr>
              <a:t>în groapă  -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ff"/>
                </a:solidFill>
                <a:latin typeface="Times New Roman"/>
              </a:rPr>
              <a:t>în cutie      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ff"/>
                </a:solidFill>
                <a:latin typeface="Times New Roman"/>
              </a:rPr>
              <a:t>în pachet   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427640" y="1628640"/>
            <a:ext cx="4537080" cy="4353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ff"/>
                </a:solidFill>
                <a:latin typeface="Times New Roman"/>
              </a:rPr>
              <a:t>din cuib       - dintr-un cu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ff"/>
                </a:solidFill>
                <a:latin typeface="Times New Roman"/>
              </a:rPr>
              <a:t>din sat          -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ff"/>
                </a:solidFill>
                <a:latin typeface="Times New Roman"/>
              </a:rPr>
              <a:t>din casă        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ff"/>
                </a:solidFill>
                <a:latin typeface="Times New Roman"/>
              </a:rPr>
              <a:t>din tufă         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ff"/>
                </a:solidFill>
                <a:latin typeface="Times New Roman"/>
              </a:rPr>
              <a:t>din rezervor –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ff"/>
                </a:solidFill>
                <a:latin typeface="Times New Roman"/>
              </a:rPr>
              <a:t>din carte        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ff"/>
                </a:solidFill>
                <a:latin typeface="Times New Roman"/>
              </a:rPr>
              <a:t>din maşină    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ff"/>
                </a:solidFill>
                <a:latin typeface="Times New Roman"/>
              </a:rPr>
              <a:t>din butoi       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8281800" cy="947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ff"/>
                </a:solidFill>
                <a:latin typeface="Times New Roman"/>
              </a:rPr>
              <a:t>Alcătuieşte enunţuri în care să foloseşti grupurile de cuvinte:</a:t>
            </a:r>
            <a:br>
              <a:rPr sz="2400"/>
            </a:br>
            <a:r>
              <a:rPr b="1" lang="ro-RO" sz="2400" spc="-1" strike="noStrike">
                <a:solidFill>
                  <a:srgbClr val="a50021"/>
                </a:solidFill>
                <a:latin typeface="Times New Roman"/>
              </a:rPr>
              <a:t>într-o clipă, într-un parc, dintr-un copac, dintr-o maşin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1413000"/>
            <a:ext cx="8496000" cy="2128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ff"/>
                </a:solidFill>
                <a:latin typeface="Times New Roman"/>
              </a:rPr>
              <a:t>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ff"/>
                </a:solidFill>
                <a:latin typeface="Times New Roman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ff"/>
                </a:solidFill>
                <a:latin typeface="Times New Roman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ff"/>
                </a:solidFill>
                <a:latin typeface="Times New Roman"/>
              </a:rPr>
              <a:t>4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50560" y="333360"/>
            <a:ext cx="8569080" cy="6588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a50021"/>
                </a:solidFill>
                <a:latin typeface="Times New Roman"/>
              </a:rPr>
              <a:t>Ordonează cuvintele pentru a obţine enunţuri corec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1125360"/>
            <a:ext cx="8351640" cy="1169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ff"/>
                </a:solidFill>
                <a:latin typeface="Times New Roman"/>
              </a:rPr>
              <a:t>1. sărea, creangă, în, dintr-o, veveriţa, alt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ff"/>
                </a:solidFill>
                <a:latin typeface="Times New Roman"/>
              </a:rPr>
              <a:t>1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68360" y="2492280"/>
            <a:ext cx="8351640" cy="1169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ff"/>
                </a:solidFill>
                <a:latin typeface="Times New Roman"/>
              </a:rPr>
              <a:t>2. microbuz, a, lume, dintr-un, coborât, multă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ff"/>
                </a:solidFill>
                <a:latin typeface="Times New Roman"/>
              </a:rPr>
              <a:t>2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3789360"/>
            <a:ext cx="8351640" cy="1169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ff"/>
                </a:solidFill>
                <a:latin typeface="Times New Roman"/>
              </a:rPr>
              <a:t>3. într-o, va, revistă, mea, apărea, fotografia,</a:t>
            </a:r>
            <a:r>
              <a:rPr b="1" lang="ro-RO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o-RO" sz="2800" spc="-1" strike="noStrike">
                <a:solidFill>
                  <a:srgbClr val="0000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ff"/>
                </a:solidFill>
                <a:latin typeface="Times New Roman"/>
              </a:rPr>
              <a:t>3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68360" y="5157720"/>
            <a:ext cx="8424720" cy="1169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ff"/>
                </a:solidFill>
                <a:latin typeface="Times New Roman"/>
              </a:rPr>
              <a:t>4. numărat, Vasile, într-un, a, şapte, cuib, ouă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ff"/>
                </a:solidFill>
                <a:latin typeface="Times New Roman"/>
              </a:rPr>
              <a:t>4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569080" cy="803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600" spc="-1" strike="noStrike">
                <a:solidFill>
                  <a:srgbClr val="ff0066"/>
                </a:solidFill>
                <a:latin typeface="Times New Roman"/>
              </a:rPr>
              <a:t>Transformă enunţurile de mai jos după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95280" y="1125360"/>
            <a:ext cx="8424720" cy="10159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6600cc"/>
                </a:solidFill>
                <a:latin typeface="Times New Roman"/>
              </a:rPr>
              <a:t>1. În pahar a rămas lap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6600cc"/>
                </a:solidFill>
                <a:latin typeface="Times New Roman"/>
              </a:rPr>
              <a:t>1. Într-un pahar a rămas lap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2205000"/>
            <a:ext cx="8424720" cy="1015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Times New Roman"/>
              </a:rPr>
              <a:t>2. Din autocar au coborât toţi elevii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95280" y="3284640"/>
            <a:ext cx="8424720" cy="1015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Times New Roman"/>
              </a:rPr>
              <a:t>3. În ladă erau ascunse toate lighioanele păduri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4437000"/>
            <a:ext cx="8424720" cy="1015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Times New Roman"/>
              </a:rPr>
              <a:t>4. Din avion a sărit câte un paraşutist la fiecare trei minu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Times New Roman"/>
              </a:rPr>
              <a:t>4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5280" y="5589720"/>
            <a:ext cx="8424720" cy="1015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Times New Roman"/>
              </a:rPr>
              <a:t>5. În parc sâmbătă cântă famfa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Times New Roman"/>
              </a:rPr>
              <a:t>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Ioan Busuioc</dc:creator>
  <dc:description/>
  <dc:language>en-US</dc:language>
  <cp:lastModifiedBy>Florica</cp:lastModifiedBy>
  <dcterms:modified xsi:type="dcterms:W3CDTF">2009-11-26T07:18:20Z</dcterms:modified>
  <cp:revision>18</cp:revision>
  <dc:subject/>
  <dc:title>Scrierea corectă a cuvintelor într-o/într-un, dintr-o/dintr-un</dc:title>
</cp:coreProperties>
</file>